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tatistical Method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E087-38B7-420A-803D-2FBA3CDF4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tatistical Method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632C-BF2C-4A0C-A42F-80D8A40A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tatistical Method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C1A5-B11D-4301-B77C-888BDABF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tatistical Method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e Placeholder 4"/>
          <p:cNvSpPr/>
          <p:nvPr/>
        </p:nvSpPr>
        <p:spPr>
          <a:xfrm>
            <a:off x="388476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5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6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A4DE-1FB3-4776-90E2-1E067C26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F44-2E9E-4A33-825F-D824234B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028-76FD-46B1-8917-0B2E50F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D1B-78E5-4C5C-BE20-395C7946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1F4-4744-42D7-9303-3C691034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AF45-ED6D-499E-8349-F9FB3A3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F03-8FCC-4E4B-89A7-D1A03C0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9E66-D9B3-4636-BC3E-C2B67F23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157-5031-4F29-9D92-BB4E448A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05A-7143-4008-9C63-B5BD339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4A8-1CFD-497F-B7A2-D884475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9FE-6DA5-444C-8BAD-8210D306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CEA-8288-41A6-A571-45DDD63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3B15-CD4D-4BE1-B3CE-8F62CAB4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488-4B59-4654-B8B5-210C7249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son (para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rman (nonparametr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6866-37DB-4239-A652-00A277E1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916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Framingham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od Pressu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stolic blood pressure (SB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stolic blood pressure (DBP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urrogate measures of cardiac health; within individuals, they should be associated with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taset contains SBP and DBP for 4699 pati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AC1-7691-4724-AA01-A5317E02E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rongly a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P and DBP associ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293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ADA8-24B4-4EDC-8D94-644D5F51C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629320" cy="46166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533520" y="3124080"/>
            <a:ext cx="99036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=0.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strongly a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P and DBP associ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1724-9C17-4E94-8840-2A117346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trong is the corre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“strong” or “weak” corre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hospital admissions vs. annual profit in all for-profit hospitals in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 ≈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traveled in orbit vs. fuel expenditure for the space shu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999 ≈ st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CD11-956C-45E4-A721-E06A053EE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Types of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son’s correlation assumes that both continuous variables follow a roughly 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often not true (for at least one vari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w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rman rank correlation provides a nonparametric alternative based on relative ranking of the data for both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2AED-7839-43C1-9358-4A85E9A91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 in J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variat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son’s correlation is shown automatically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oll 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e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rman’s rank correlation is in the hot spot (red arrow) next to “Multivariate,” under “Nonparametric corre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4811-6207-47BF-890B-67577EED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 rot="4211400">
            <a:off x="3459960" y="1721520"/>
            <a:ext cx="1292040" cy="1278000"/>
          </a:xfrm>
          <a:custGeom>
            <a:avLst/>
            <a:gdLst>
              <a:gd name="textAreaLeft" fmla="*/ 339480 w 1292040"/>
              <a:gd name="textAreaRight" fmla="*/ 952560 w 1292040"/>
              <a:gd name="textAreaTop" fmla="*/ 335880 h 1278000"/>
              <a:gd name="textAreaBottom" fmla="*/ 942120 h 12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754" y="21600"/>
                </a:lnTo>
                <a:lnTo>
                  <a:pt x="1384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e5f5ff"/>
              </a:gs>
            </a:gsLst>
            <a:lin ang="11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495680" y="1523880"/>
            <a:ext cx="251460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4876920" y="1600200"/>
            <a:ext cx="2057400" cy="6858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095560" y="2286000"/>
            <a:ext cx="1523880" cy="457200"/>
          </a:xfrm>
          <a:prstGeom prst="rect">
            <a:avLst/>
          </a:prstGeom>
          <a:solidFill>
            <a:srgbClr val="e5f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 for Pearson’s Correlation - FY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84440" y="1490760"/>
          <a:ext cx="59259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4440" y="1490760"/>
                    <a:ext cx="59259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486400" y="-360"/>
            <a:ext cx="3657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of the graphs is needed; second is mirr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 dot is approximately the mean of both X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0F8D-F4AB-4F56-9285-4BE426C51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Oval 13"/>
          <p:cNvSpPr/>
          <p:nvPr/>
        </p:nvSpPr>
        <p:spPr>
          <a:xfrm>
            <a:off x="3529080" y="2816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"/>
          <p:cNvSpPr/>
          <p:nvPr/>
        </p:nvSpPr>
        <p:spPr>
          <a:xfrm>
            <a:off x="609480" y="3809880"/>
            <a:ext cx="18748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 flipH="1">
            <a:off x="609480" y="3809880"/>
            <a:ext cx="187488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57F-D807-4AAD-8E26-EEE0925EB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159520" y="4419720"/>
            <a:ext cx="419076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-1185840" y="4419720"/>
            <a:ext cx="4191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003480" y="4419720"/>
            <a:ext cx="2133720" cy="609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 for Pearson’s Correlation - FY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8"/>
          <p:cNvGraphicFramePr/>
          <p:nvPr/>
        </p:nvGraphicFramePr>
        <p:xfrm>
          <a:off x="1595520" y="1655640"/>
          <a:ext cx="59259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655640"/>
                    <a:ext cx="59259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486400" y="-360"/>
            <a:ext cx="3657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intuition about the math (FY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is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bove both the mean of X and the mean of Y:  positive*posi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This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below both the mean of X and the mean of Y:  negative*negat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F8F-69D6-45F9-81DA-433EBA241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Oval 13"/>
          <p:cNvSpPr/>
          <p:nvPr/>
        </p:nvSpPr>
        <p:spPr>
          <a:xfrm>
            <a:off x="3529080" y="2816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"/>
          <p:cNvSpPr/>
          <p:nvPr/>
        </p:nvSpPr>
        <p:spPr>
          <a:xfrm>
            <a:off x="609480" y="3809880"/>
            <a:ext cx="1874880" cy="1828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0"/>
          <p:cNvSpPr/>
          <p:nvPr/>
        </p:nvSpPr>
        <p:spPr>
          <a:xfrm flipH="1">
            <a:off x="609480" y="3809880"/>
            <a:ext cx="1874880" cy="175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4"/>
          <p:cNvSpPr/>
          <p:nvPr/>
        </p:nvSpPr>
        <p:spPr>
          <a:xfrm>
            <a:off x="4199040" y="1727280"/>
            <a:ext cx="228600" cy="2286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2795760" y="3276720"/>
            <a:ext cx="228600" cy="228600"/>
          </a:xfrm>
          <a:prstGeom prst="ellipse">
            <a:avLst/>
          </a:prstGeom>
          <a:noFill/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6AE2-DA3C-43EC-B7BE-13828515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rson’s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way to measu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ssoci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two continuous variables when neither variable is considered an outc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ample correlation, is used to estimate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rho], the population corre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Correlation Was Better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cide which correlation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2E11-1B01-4AB5-A0FD-BBE1C13C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cide which correlation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add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gra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cas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F8DF-840A-4B6C-A606-396F7EA48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Correlation Was Better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433680" y="2093760"/>
            <a:ext cx="571032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D52D-00D5-4995-8FAB-200145F1A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Cor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, because both variables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roxima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rmally distributed, the correlations are simi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rson:  0.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rman:  0.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for straight-line correlatio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“correlation” is not specified, it virtually always refers to Pearson’s corre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609-83E3-4FAA-A490-60F40B761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 assesses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rength of the assoc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wo continuous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is considered an outcom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variables must be contin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gression can also measure the strength of the association between two continuous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variable predicts the value of the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with regard to type of variable and need for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D2A4-B1C5-4699-A061-3D79D254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mpares two continuous variables without assigning either as an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useful for straight-lin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rson’s correlation is used when both variables are roughly normally distributed; otherwise use Spearman’s rank corre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regression also compares two continuous variables but defines one as the outcome; it also allows different predictor variables and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0DDE-602D-4B49-84F6-E2CE116C9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by -1 an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 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if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= no association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= perfect negativ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= perfect positiv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131-3600-4A18-B670-CA26E7AD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124080" y="38098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352680" y="4267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606840" y="318780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886200" y="3505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419720" y="32004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572000" y="3124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800600" y="3505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5181480" y="28195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4"/>
          <p:cNvSpPr/>
          <p:nvPr/>
        </p:nvSpPr>
        <p:spPr>
          <a:xfrm>
            <a:off x="5486400" y="3124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5"/>
          <p:cNvSpPr/>
          <p:nvPr/>
        </p:nvSpPr>
        <p:spPr>
          <a:xfrm>
            <a:off x="5867280" y="25909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3886200" y="27432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8"/>
          <p:cNvSpPr/>
          <p:nvPr/>
        </p:nvSpPr>
        <p:spPr>
          <a:xfrm>
            <a:off x="4267080" y="28954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9"/>
          <p:cNvSpPr/>
          <p:nvPr/>
        </p:nvSpPr>
        <p:spPr>
          <a:xfrm>
            <a:off x="4508640" y="35812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800600" y="25909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5410080" y="2362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3048120" y="32767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3"/>
          <p:cNvSpPr/>
          <p:nvPr/>
        </p:nvSpPr>
        <p:spPr>
          <a:xfrm>
            <a:off x="5791320" y="32004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5943600" y="193032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6019920" y="321480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&lt;r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2057400" y="5562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 Positive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2769480" y="2037600"/>
            <a:ext cx="3757320" cy="232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5EF-DD42-4A2B-AB4D-F563ED90D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24080" y="41148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352680" y="39625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3733920" y="36576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886200" y="3581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4191120" y="34290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572000" y="3124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800600" y="30481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5181480" y="28195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5562720" y="25909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5867280" y="2362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886200" y="3581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3429000" y="38862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4495680" y="3200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343400" y="32767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029200" y="28954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5410080" y="26668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3048120" y="41911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6019920" y="22860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019920" y="321480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057400" y="5562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Positive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7"/>
          <p:cNvSpPr/>
          <p:nvPr/>
        </p:nvSpPr>
        <p:spPr>
          <a:xfrm flipV="1">
            <a:off x="2769480" y="2037600"/>
            <a:ext cx="3757320" cy="232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9AFD-C336-4B8B-BDD1-3CEA0F423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791320" y="38368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562720" y="42940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181480" y="3227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991040" y="41148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610160" y="334152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343400" y="3151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114800" y="3532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3733920" y="28465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915080" y="43704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095640" y="2465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5029200" y="27702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445080" y="32796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4648320" y="29224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572000" y="3608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114800" y="26179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505320" y="2389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5867280" y="33037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3733920" y="22096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3048120" y="20080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6019920" y="243828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&lt;r &l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2057400" y="5562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 Negative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8"/>
          <p:cNvSpPr/>
          <p:nvPr/>
        </p:nvSpPr>
        <p:spPr>
          <a:xfrm flipH="1" flipV="1">
            <a:off x="3009240" y="1958400"/>
            <a:ext cx="3430080" cy="256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C56-46AB-4421-91C5-18665AD2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6"/>
          <p:cNvGrpSpPr/>
          <p:nvPr/>
        </p:nvGrpSpPr>
        <p:grpSpPr>
          <a:xfrm>
            <a:off x="3048120" y="2286000"/>
            <a:ext cx="3047760" cy="1981080"/>
            <a:chOff x="3048120" y="2286000"/>
            <a:chExt cx="3047760" cy="1981080"/>
          </a:xfrm>
        </p:grpSpPr>
        <p:sp>
          <p:nvSpPr>
            <p:cNvPr id="144" name="Rectangle 7"/>
            <p:cNvSpPr/>
            <p:nvPr/>
          </p:nvSpPr>
          <p:spPr>
            <a:xfrm flipH="1">
              <a:off x="5943600" y="411480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 flipH="1">
              <a:off x="5715000" y="3962520"/>
              <a:ext cx="7632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 flipH="1">
              <a:off x="5333760" y="3657600"/>
              <a:ext cx="7596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flipH="1">
              <a:off x="5181480" y="35812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flipH="1">
              <a:off x="4876560" y="3429000"/>
              <a:ext cx="7596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H="1">
              <a:off x="4495680" y="31240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 flipH="1">
              <a:off x="4267080" y="3048120"/>
              <a:ext cx="7632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4"/>
            <p:cNvSpPr/>
            <p:nvPr/>
          </p:nvSpPr>
          <p:spPr>
            <a:xfrm flipH="1">
              <a:off x="3886200" y="2819520"/>
              <a:ext cx="7632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 flipH="1">
              <a:off x="3504960" y="2590920"/>
              <a:ext cx="7596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 flipH="1">
              <a:off x="3200400" y="2362320"/>
              <a:ext cx="7632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7"/>
            <p:cNvSpPr/>
            <p:nvPr/>
          </p:nvSpPr>
          <p:spPr>
            <a:xfrm flipH="1">
              <a:off x="5181480" y="35812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8"/>
            <p:cNvSpPr/>
            <p:nvPr/>
          </p:nvSpPr>
          <p:spPr>
            <a:xfrm flipH="1">
              <a:off x="5638680" y="388620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9"/>
            <p:cNvSpPr/>
            <p:nvPr/>
          </p:nvSpPr>
          <p:spPr>
            <a:xfrm flipH="1">
              <a:off x="4572000" y="320040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0"/>
            <p:cNvSpPr/>
            <p:nvPr/>
          </p:nvSpPr>
          <p:spPr>
            <a:xfrm flipH="1">
              <a:off x="4724280" y="3276720"/>
              <a:ext cx="7632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1"/>
            <p:cNvSpPr/>
            <p:nvPr/>
          </p:nvSpPr>
          <p:spPr>
            <a:xfrm flipH="1">
              <a:off x="4038480" y="28954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2"/>
            <p:cNvSpPr/>
            <p:nvPr/>
          </p:nvSpPr>
          <p:spPr>
            <a:xfrm flipH="1">
              <a:off x="3657600" y="26668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3"/>
            <p:cNvSpPr/>
            <p:nvPr/>
          </p:nvSpPr>
          <p:spPr>
            <a:xfrm flipH="1">
              <a:off x="6019560" y="4191120"/>
              <a:ext cx="7596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4"/>
            <p:cNvSpPr/>
            <p:nvPr/>
          </p:nvSpPr>
          <p:spPr>
            <a:xfrm flipH="1">
              <a:off x="3352680" y="2438280"/>
              <a:ext cx="7632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 flipH="1">
              <a:off x="3047760" y="2286000"/>
              <a:ext cx="7596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26"/>
          <p:cNvSpPr/>
          <p:nvPr/>
        </p:nvSpPr>
        <p:spPr>
          <a:xfrm>
            <a:off x="6019920" y="321480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2057400" y="55627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 Negative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8"/>
          <p:cNvSpPr/>
          <p:nvPr/>
        </p:nvSpPr>
        <p:spPr>
          <a:xfrm flipH="1" flipV="1">
            <a:off x="2769480" y="2112120"/>
            <a:ext cx="3757680" cy="232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02E9-7F1B-43D1-A577-9F6DCAF42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124080" y="3200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352680" y="3505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3733920" y="32004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3733920" y="3505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4267080" y="3200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648320" y="32767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4724280" y="37339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181480" y="3200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5486400" y="35053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5638680" y="31240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886200" y="28195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3429000" y="29718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4267080" y="26668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4343400" y="3581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800600" y="28954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5181480" y="27432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3048120" y="28954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5791320" y="3505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5791320" y="28954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4572000" y="198108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6"/>
          <p:cNvSpPr/>
          <p:nvPr/>
        </p:nvSpPr>
        <p:spPr>
          <a:xfrm>
            <a:off x="2057400" y="55627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2438280" y="320040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05FC-5A0D-47F5-B812-7C27182C3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s of the Correl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4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205740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2057400" y="502920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048120" y="38862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2971800" y="41911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886200" y="2590920"/>
            <a:ext cx="7632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124080" y="3581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648320" y="2362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276720" y="32767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4876920" y="243828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6019920" y="3505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5867280" y="32004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114800" y="24382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3429000" y="29718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4419720" y="2362320"/>
            <a:ext cx="75960" cy="75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6172200" y="41148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05520" y="2514600"/>
            <a:ext cx="7596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410080" y="26668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3657600" y="274320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2"/>
          <p:cNvSpPr/>
          <p:nvPr/>
        </p:nvSpPr>
        <p:spPr>
          <a:xfrm>
            <a:off x="6095880" y="38098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5638680" y="2895480"/>
            <a:ext cx="76320" cy="76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6095880" y="1676520"/>
            <a:ext cx="20574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057400" y="55627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ight-l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6"/>
          <p:cNvSpPr/>
          <p:nvPr/>
        </p:nvSpPr>
        <p:spPr>
          <a:xfrm>
            <a:off x="2438280" y="320040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0:44:11Z</dcterms:created>
  <dc:creator>HSRTEST3</dc:creator>
  <dc:description/>
  <dc:language>en-US</dc:language>
  <cp:lastModifiedBy>Felicity T B Enders</cp:lastModifiedBy>
  <cp:lastPrinted>2012-09-28T23:32:27Z</cp:lastPrinted>
  <dcterms:modified xsi:type="dcterms:W3CDTF">2014-04-17T18:51:01Z</dcterms:modified>
  <cp:revision>45</cp:revision>
  <dc:subject/>
  <dc:title>Stat II</dc:title>
</cp:coreProperties>
</file>